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B13-D4A3-483E-83A3-A030DE13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EEA-EE3B-4EC3-9FC1-276680C3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EE1D-CA17-48A2-96DC-068D5BAF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459C-F66A-4BBF-94D5-801B65F4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975D-2827-4E1E-B0F4-41C2C6B7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7CAA-A1BD-4A81-9DAB-CB8F9B54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ACCB-CE28-4D3F-BEC8-D6EC5BBE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3164-BE91-4F55-B249-70D2E870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D095-7FA6-4AF0-9EA4-C8884920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B968-D892-41C2-B598-F30B4FFE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DFF2-E8BC-4FA6-88AD-4390553E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BA9-EEA7-49AD-A78A-F8458E23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EC3C-C8BF-4E2A-BAC7-85002A63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9177-3799-47E6-A645-6EBBE30C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B7E6-FC90-47D2-92D7-3DA16400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D6F5-9BCF-4C0A-BC8E-2311ABCF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2F6A-C642-4EEB-94BA-D786ADC4C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8D8-15A1-4D31-B71D-74C303DA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8DB5-6814-43DB-968C-53435B1E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023C-3AB2-430E-8349-0FD5E700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73C1-FC77-44A5-B92A-A602645E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E3E-1858-479E-B21B-C1B53D91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00A-5212-4BCE-849D-12111E8F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F0E9-707E-421E-A454-911F2E57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A686-66F8-44BA-8F1D-22F9E2A90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3F33-E83D-4BA0-944B-80377A735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erfau afreolaid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ser y presenn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50920" y="404640"/>
            <a:ext cx="8208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e rhai berfau yn afreolaidd ac, yn wahanol i ferfau rheolaidd,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id ydynt  yn dilyn y patrymau arferol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 Maent   yn dilyn eu patrwm eu hunain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e rhai o’r berfau mwyaf defnyddiol yn afreolaidd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oes dim dewis arall ond eu dysgu   ar eich cof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e yna bedwar yn arbennig y dylech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dysgu yn drylwyr –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avoir, être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all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fai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560" y="141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ff03"/>
                </a:solidFill>
                <a:latin typeface="Comic Sans MS"/>
              </a:rPr>
              <a:t>être = b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2869920"/>
            <a:ext cx="377028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su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Tu 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Il/Elle e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11240" y="2806560"/>
            <a:ext cx="377028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ous somm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êt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ls/Elles so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6" descr="BD10671_"/>
          <p:cNvPicPr/>
          <p:nvPr/>
        </p:nvPicPr>
        <p:blipFill>
          <a:blip r:embed="rId1"/>
          <a:stretch/>
        </p:blipFill>
        <p:spPr>
          <a:xfrm>
            <a:off x="971640" y="765000"/>
            <a:ext cx="16048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5640" y="141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15ff03"/>
                </a:solidFill>
                <a:latin typeface="Comic Sans MS"/>
              </a:rPr>
              <a:t>avoir = bod gy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3770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’ai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u </a:t>
            </a: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l/Elle 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11240" y="2743200"/>
            <a:ext cx="3770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ous av</a:t>
            </a: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ons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ous av</a:t>
            </a: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ls/Elles o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5" descr="j0232429"/>
          <p:cNvPicPr/>
          <p:nvPr/>
        </p:nvPicPr>
        <p:blipFill>
          <a:blip r:embed="rId1"/>
          <a:stretch/>
        </p:blipFill>
        <p:spPr>
          <a:xfrm>
            <a:off x="1116000" y="836640"/>
            <a:ext cx="12970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427280" y="2852280"/>
            <a:ext cx="432108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ous </a:t>
            </a: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all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Vous all</a:t>
            </a:r>
            <a:r>
              <a:rPr b="0" lang="en-US" sz="3600" spc="-1" strike="noStrike">
                <a:solidFill>
                  <a:srgbClr val="032600"/>
                </a:solidFill>
                <a:latin typeface="Comic Sans MS"/>
              </a:rPr>
              <a:t>ez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ls/Elles vo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00000" y="2852280"/>
            <a:ext cx="373392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va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Tu va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l/Elle v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title"/>
          </p:nvPr>
        </p:nvSpPr>
        <p:spPr>
          <a:xfrm>
            <a:off x="1042560" y="1483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15ff03"/>
                </a:solidFill>
                <a:latin typeface="Comic Sans MS"/>
              </a:rPr>
              <a:t>aller = myn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5" descr="j0282781"/>
          <p:cNvPicPr/>
          <p:nvPr/>
        </p:nvPicPr>
        <p:blipFill>
          <a:blip r:embed="rId1"/>
          <a:stretch/>
        </p:blipFill>
        <p:spPr>
          <a:xfrm>
            <a:off x="1187280" y="907920"/>
            <a:ext cx="17272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141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ff03"/>
                </a:solidFill>
                <a:latin typeface="Comic Sans MS"/>
              </a:rPr>
              <a:t>faire = gwneu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2869920"/>
            <a:ext cx="3770280" cy="26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fa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Tu fai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Il/Elle fai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11240" y="2806560"/>
            <a:ext cx="377028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ous fa</a:t>
            </a:r>
            <a:r>
              <a:rPr b="0" lang="en-GB" sz="3600" spc="-1" strike="noStrike">
                <a:solidFill>
                  <a:srgbClr val="032600"/>
                </a:solidFill>
                <a:latin typeface="Comic Sans MS"/>
              </a:rPr>
              <a:t>is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Vous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it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ls/Elles fo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AN02337_"/>
          <p:cNvPicPr/>
          <p:nvPr/>
        </p:nvPicPr>
        <p:blipFill>
          <a:blip r:embed="rId1"/>
          <a:stretch/>
        </p:blipFill>
        <p:spPr>
          <a:xfrm>
            <a:off x="684360" y="476280"/>
            <a:ext cx="19447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marferwch a Sylw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828800"/>
            <a:ext cx="769608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wr, ceisiwch gwblhau’r ymarferion ar avoir, être, aller a faire sydd yn eich llyfry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saf, gan ddefnyddio uwcholeuydd neu bensil lliw, uwcholeuwch unrhyw  rannau tebyg rhwng y 4 berf (dim ond y rhannau sydd y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r un peth!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e. J’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i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 v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i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10:15:29Z</dcterms:created>
  <dc:creator>YSGOL Y PRESELI</dc:creator>
  <dc:description/>
  <dc:language>en-US</dc:language>
  <cp:lastModifiedBy>Admin</cp:lastModifiedBy>
  <dcterms:modified xsi:type="dcterms:W3CDTF">2012-09-16T14:42:04Z</dcterms:modified>
  <cp:revision>6</cp:revision>
  <dc:subject/>
  <dc:title>Slide 1</dc:title>
</cp:coreProperties>
</file>